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6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6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9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58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93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984000" cy="927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2"/>
          </p:nvPr>
        </p:nvSpPr>
        <p:spPr>
          <a:xfrm>
            <a:off x="395568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74320" y="695160"/>
            <a:ext cx="4635720" cy="347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3"/>
          </p:nvPr>
        </p:nvSpPr>
        <p:spPr>
          <a:xfrm>
            <a:off x="-360" y="8805600"/>
            <a:ext cx="3027240" cy="4633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4"/>
          </p:nvPr>
        </p:nvSpPr>
        <p:spPr>
          <a:xfrm>
            <a:off x="3955680" y="8805600"/>
            <a:ext cx="3027240" cy="4633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4DBAAA13-EF0F-49D8-9E02-EBDA2EF975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96.xml.rels><?xml version="1.0" encoding="UTF-8"?>
<Relationships xmlns="http://schemas.openxmlformats.org/package/2006/relationships"><Relationship Id="rId1" Type="http://schemas.openxmlformats.org/officeDocument/2006/relationships/slide" Target="../slides/slide96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55680" y="8805600"/>
            <a:ext cx="3027240" cy="4633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75765BA5-9DDE-43A2-B3AB-F9A74D91EE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-360" y="8805600"/>
            <a:ext cx="3027240" cy="4633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5568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7160" cy="347832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7160" cy="347688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erall quality grade can translate into HICPAC guide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 txBox="1"/>
          <p:nvPr/>
        </p:nvSpPr>
        <p:spPr>
          <a:xfrm>
            <a:off x="3955680" y="8805600"/>
            <a:ext cx="3027240" cy="4633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39C8DB13-13F5-48EF-83A7-4B3E8E743F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-360" y="8805600"/>
            <a:ext cx="3027240" cy="4633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395568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391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066680" y="4050720"/>
            <a:ext cx="7391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360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54240" y="1980720"/>
            <a:ext cx="360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050720"/>
            <a:ext cx="360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854240" y="4050720"/>
            <a:ext cx="360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23799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566160" y="1980720"/>
            <a:ext cx="23799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65280" y="1980720"/>
            <a:ext cx="23799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066680" y="4050720"/>
            <a:ext cx="23799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566160" y="4050720"/>
            <a:ext cx="23799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65280" y="4050720"/>
            <a:ext cx="23799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066680" y="1980720"/>
            <a:ext cx="739152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391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360684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854240" y="1980720"/>
            <a:ext cx="360684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360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54240" y="1980720"/>
            <a:ext cx="360684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066680" y="4050720"/>
            <a:ext cx="360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360684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54240" y="1980720"/>
            <a:ext cx="360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854240" y="4050720"/>
            <a:ext cx="360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360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54240" y="1980720"/>
            <a:ext cx="360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066680" y="4050720"/>
            <a:ext cx="7391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680" y="1980720"/>
            <a:ext cx="7391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2819520" y="6248520"/>
            <a:ext cx="4038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400" spc="-1" strike="noStrike">
                <a:solidFill>
                  <a:srgbClr val="77777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777777"/>
                </a:solidFill>
                <a:latin typeface="Arial"/>
              </a:rPr>
              <a:t>&lt;footer&gt;</a:t>
            </a:r>
            <a:r>
              <a:rPr b="1" i="1" lang="en-US" sz="1400" spc="-1" strike="noStrike">
                <a:solidFill>
                  <a:srgbClr val="777777"/>
                </a:solidFill>
                <a:latin typeface="Arial"/>
              </a:rPr>
              <a:t>Procurement Sensi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hyperlink" Target="http://www.cms.hhs.gov/HospitalOutpatientPPS" TargetMode="External"/><Relationship Id="rId2" Type="http://schemas.openxmlformats.org/officeDocument/2006/relationships/hyperlink" Target="http://www.cms.hhs.gov/HospitalAcqCond" TargetMode="External"/><Relationship Id="rId3" Type="http://schemas.openxmlformats.org/officeDocument/2006/relationships/hyperlink" Target="mailto:heather.hostetler@cms.hhs.gov" TargetMode="External"/><Relationship Id="rId4" Type="http://schemas.openxmlformats.org/officeDocument/2006/relationships/hyperlink" Target="mailto:carol.bazell@cms.hhs.gov" TargetMode="External"/><Relationship Id="rId5" Type="http://schemas.openxmlformats.org/officeDocument/2006/relationships/hyperlink" Target="mailto:sheila.roman@cms.hhs.gov" TargetMode="External"/><Relationship Id="rId6" Type="http://schemas.openxmlformats.org/officeDocument/2006/relationships/slideLayout" Target="../slideLayouts/slideLayout3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cdc.gov/od/oc/media/pressrel/r2k0306b.htm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edocket.access.gpo.gov/2008/pdf/E8-17914.pdf" TargetMode="External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hyperlink" Target="http://www.cdc.gov/ncidod/dhqp/hicpac.html" TargetMode="External"/><Relationship Id="rId2" Type="http://schemas.openxmlformats.org/officeDocument/2006/relationships/slideLayout" Target="../slideLayouts/slideLayout2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hyperlink" Target="http://www.cms.hhs.gov/HospitalAcqCond/" TargetMode="External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hyperlink" Target="http://www.cdc.gov/nchs/datawh/ftpserv/ftpicd9/icdguide08.pdf" TargetMode="External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6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1523520" y="4343040"/>
            <a:ext cx="6324840" cy="34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title"/>
          </p:nvPr>
        </p:nvSpPr>
        <p:spPr>
          <a:xfrm>
            <a:off x="838080" y="279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nters for Medicare &amp; Medicaid Service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nters for Disease Control &amp; Prevent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gency for Healthcare Research &amp; Quality  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spital-Acquired Conditions &amp; Hospital Outpatient Healthcare-Associated Conditions Listening Session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ursday, December 18, 2008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06668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-763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VBP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2120" y="1676160"/>
            <a:ext cx="76197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rove Qu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ality improvement opportu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nnberg’s Dartmouth Atlas on variation in c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cGlynn’s NEJM findings on lack of evidence-based c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OM’s Crossing the Quality Chasm find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oid Unnecessary Co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dicare’s various fee-for-service fee schedules and prospective payment systems are based o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resource consump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quanti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care, NOT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quali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unnecessary costs avoi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yment systems’ incentives are not alig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Questions to Addres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914400" y="1676520"/>
            <a:ext cx="739152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w common in the HOP setting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o guidelines/prevention interventions exist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terpretation of the term “…reasonably…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w effective are prevention interventions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n we identif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rough ICD-9 codes or other HOP claim reporting mechanis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P conditions that result in inpatient admiss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n we measure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eed for sequential evaluation of Medicare clai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w do we measure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ent-based vs. rate-bas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sources and Inform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391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P-HAC inform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deral Register/ Vol. 73, No. 223/ p.68781-68787 at: </a:t>
            </a:r>
            <a:r>
              <a:rPr b="0" lang="en-US" sz="2000" spc="-1" strike="noStrike" u="sng">
                <a:solidFill>
                  <a:srgbClr val="3333ff"/>
                </a:solidFill>
                <a:uFillTx/>
                <a:latin typeface="Arial"/>
                <a:hlinkClick r:id="rId1"/>
              </a:rPr>
              <a:t>http://www.cms.hhs.gov/HospitalOutpatientP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l HAC information: </a:t>
            </a:r>
            <a:r>
              <a:rPr b="0" lang="en-US" sz="2400" spc="-1" strike="noStrike" u="sng">
                <a:solidFill>
                  <a:srgbClr val="3333ff"/>
                </a:solidFill>
                <a:uFillTx/>
                <a:latin typeface="Arial"/>
                <a:hlinkClick r:id="rId2"/>
              </a:rPr>
              <a:t>http://www.cms.hhs.gov/HospitalAcqC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P-HAC conta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ff"/>
                </a:solidFill>
                <a:uFillTx/>
                <a:latin typeface="Arial"/>
                <a:hlinkClick r:id="rId3"/>
              </a:rPr>
              <a:t>heather.hostetler@cms.hhs.go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ff"/>
                </a:solidFill>
                <a:uFillTx/>
                <a:latin typeface="Arial"/>
                <a:hlinkClick r:id="rId4"/>
              </a:rPr>
              <a:t>carol.bazell@cms.hhs.go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ff"/>
                </a:solidFill>
                <a:uFillTx/>
                <a:latin typeface="Arial"/>
                <a:hlinkClick r:id="rId5"/>
              </a:rPr>
              <a:t>sheila.roman@cms.hhs.go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1371600" y="3809520"/>
            <a:ext cx="63244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pen Public Comment Ses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title"/>
          </p:nvPr>
        </p:nvSpPr>
        <p:spPr>
          <a:xfrm>
            <a:off x="838080" y="1066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fternoon Pan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06668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1523520" y="4343040"/>
            <a:ext cx="63248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or, CMS – Center for Medicare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title"/>
          </p:nvPr>
        </p:nvSpPr>
        <p:spPr>
          <a:xfrm>
            <a:off x="838080" y="1653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osing Remark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eff Rich, M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06668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523520" y="4343040"/>
            <a:ext cx="63248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dical Officer &amp; Senior Advis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MS – Center for Medicare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title"/>
          </p:nvPr>
        </p:nvSpPr>
        <p:spPr>
          <a:xfrm>
            <a:off x="838080" y="1653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osing Remark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om Valuck, MD, JD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06668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VBP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62120" y="17521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dicare Solvency and Beneficiary Imp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nditures up from $219 billion in 2000 to a projected $486 billion in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t A Trust F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cess of expenditures over tax income in 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jected to be depleted by 201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t B Trust F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enditures increasing 11% per year over the last 6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dicare premiums, deductibles, and cost-sharing are projected to consume 28% of the average beneficiaries’ Social Security check in 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upport for VB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7696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ident’s Budg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Ys 2006-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gressional Interest in P4P and Other Value-Based Purchasing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PA, MMA, DRA, TRCHA, MMSEA, MIP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dPAC Reports to Cong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4P recommendations related to quality, efficiency, health information technology, and payment re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OM Re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4P recommendations i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o Err Is Hu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rossing the Quality Cha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ort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ewarding Provider Performance: Aligning Incentives in Medic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vate Se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vate health pl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ployer coal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VBP Demonstrations and Pilo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73152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mier Hospital Quality Incentive Demonst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ysician Group Practice Demonst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dicare Care Management Performance Demonst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rsing Home Value-Based Purchasing Demonstr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me Health Pay for Performance Demonst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VBP Demonstrations and Pilo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74678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dicare Health Support Pilo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e Management for High-Cost Beneficiaries Demonst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dicare Healthcare Quality Demonst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ainsharing Demonst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ute Care Episode (ACE) Demonst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ter Quality Information (BQI) Pilo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ctronic Health Records (EHR) Demonst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dical Home Demonst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VBP Progra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990720" y="1371600"/>
            <a:ext cx="769608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spital Quality Initiative: Inpatient &amp; Outpatient Pay for Repor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spital VBP Plan &amp; Report to Cong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spital-Acquired Conditions &amp; Present on Admission Indicator Repor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ysician Quality Reporting Initiativ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ysician Resource Use Repor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ysician VBP Plan &amp; Report to Cong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me Health Care Pay for Repor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RD Pay for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dica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VBP Initiativ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819520"/>
            <a:ext cx="8153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spital-Acquired Conditions and Present on Admission Indicator Repor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523880" y="3505320"/>
            <a:ext cx="632484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HAC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7720" y="2133720"/>
            <a:ext cx="769644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IOM estimated in 1999 that as many as 98,000 Americans die each year as a result of medical err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national costs of these errors estimated at $17-29 bill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OM:  To Err is Human: Building a Safer Health System, November 1999.  Available at:  http://www.iom.edu/Object.File/Master/4/117/ToErr-8pager.pdf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HAC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14040" y="18288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2000, CDC estimated that hospital-acquired infections add nearly $5 billion to U.S. health care costs annu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nters for Disease Control and Prevention:  Press Release, March 2000.  Available at:  </a:t>
            </a:r>
            <a:r>
              <a:rPr b="0" lang="en-US" sz="1600" spc="-1" strike="noStrike" u="sng">
                <a:solidFill>
                  <a:srgbClr val="3333ff"/>
                </a:solidFill>
                <a:uFillTx/>
                <a:latin typeface="Arial"/>
                <a:hlinkClick r:id="rId1"/>
              </a:rPr>
              <a:t>http://www.cdc.gov/od/oc/media/pressrel/r2k0306b.htm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2007 study found that, in 2002, 1.7 million hospital-acquired infections were associated with 99,000 de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levens et al.  Estimating Health Care-Associated Infections an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aths in U.S. Hospitals, 2002. 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Public Health Report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 March-Apri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07.  Volume 122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HAC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040" y="213372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2007 Leapfrog Group survey of 1,256 hospitals found that 87% of those hospitals do not consistently follow recommendations to prevent many of the most common hospital-acquired inf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07 Leapfrog Group Hospital Survey.  The Leapfrog Group 2007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vailable at:  http://www.leapfroggroup.org/media/file/Leapfrog_hospital_acquired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fections_release.pdf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1523520" y="4343040"/>
            <a:ext cx="63248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puty Administr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nters for Medicare &amp; Medicaid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838080" y="1653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pening Remarks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erb Kuhn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06668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tatutory Authority: 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RA Section 5001(c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ginning October 1, 2007, IPPS hospitals were required to submit data on their claims for payment indicating whether diagnoses were present on admission (P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ginning October 1, 2008, CMS cannot assign a case to a higher DRG based on the occurrence of one of the selected conditions, if that condition was acquired during the hospit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tatutory Selection Criter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69608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S must select conditions that 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 cost, high volume, or bo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igned to a higher paying DRG when present as a secondary diagno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sonably preventable through the application of evidence-based guidel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AC Selection Proc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MS and Centers for Disease Control and Prevention (CDC) internal Workgroup selected the HA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ormal comments from stakehol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MS/CDC sponsored Listening S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cember 17, 2007 &amp; December 18,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 hoc meetings with stakehol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atient Prospective Payment System (IPPS) rulema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osed and Final rules for Fiscal Years (FY) 2007, 2008, 20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1523520" y="4343040"/>
            <a:ext cx="63248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dical Offic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MS – Hospital &amp; Ambulatory Policy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838080" y="1653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lected and Candidate HACs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oe Kelly, M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06668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lected HACs for Implementati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95280" y="16761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eign object retained after surg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ir embol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ood incompat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sure ulc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ges III &amp; I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a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lo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acranial inju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ushing inju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r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ectric sho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lected HACs for Implementati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94920" y="1447560"/>
            <a:ext cx="76201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ifestations of poor glycemic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9440" indent="-376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ypoglycemic co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29440" indent="-376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abetic ketoacido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29440" indent="-376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nkeototic hyperosmolar co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29440" indent="-376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ary diabetes with ketoacido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29440" indent="-376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ary diabetes with hyperosmo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theter-associated urinary tract inf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scular catheter-associated inf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ep vein thrombosis (DVT)/pulmonary embolism (P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9440" indent="-376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tal knee replac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29440" indent="-376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p replac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lected HACs for Implementati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7620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.  Surgical site inf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astinitis after coronary artery bypass graft (CAB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rtain orthopedic proced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oul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b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riatric surgery for obes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prascopic gastric byp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stroenterostom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paroscopic gastric restrictive surg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andidate HA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320" y="190512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scal Year 2009 Inpatient Prospective Payment System (IPPS) final ru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33ff"/>
                </a:solidFill>
                <a:uFillTx/>
                <a:latin typeface="Arial"/>
                <a:hlinkClick r:id="rId1"/>
              </a:rPr>
              <a:t>http://edocket.access.gpo.gov/2008/pdf/E8-17914.pdf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(page 3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6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andidate HA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43000" y="16761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rgical site infection following device proced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ilure to resc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ath or disability associated with drugs, devices, or biolog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hyd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lnutr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ter-borne pathoge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andidate HAC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320" y="2285640"/>
            <a:ext cx="76201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rgical site infections following procedures – orthopedic and 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ntilator-associated pneumon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lostridium diffici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associated dise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523520" y="4343040"/>
            <a:ext cx="63248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ief Policy Offic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nter for Disease Control &amp; Preven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838080" y="1653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pening Remarks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ne Haddix, PhD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06668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1523520" y="4343040"/>
            <a:ext cx="63248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puty Director, CDC – Division of Healthcare Quality Promo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title"/>
          </p:nvPr>
        </p:nvSpPr>
        <p:spPr>
          <a:xfrm>
            <a:off x="838080" y="1653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vidence-Based Guidelines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esley Richards, MD, MP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06668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DC supports CMS efforts to align payment and val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54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vention, and elimination eventually, of healthcare-associated infections is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ritically depend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n an effective value-based appro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ingly, payment shou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ward the application of evidence-based prevention strateg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ward transparenc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incentivize payment for preventable cond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deally, payment will reward pre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731880" y="868320"/>
            <a:ext cx="7680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4111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DC is working to prevent hospital-acquired condi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651040" y="1143000"/>
            <a:ext cx="384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tient Safe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rot="16200000">
            <a:off x="3792960" y="-705240"/>
            <a:ext cx="1558080" cy="635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0726516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0726516"/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39720" y="2514600"/>
            <a:ext cx="14619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 Unicode"/>
              </a:rPr>
              <a:t>Healthcare-associated Infe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950160" y="2514600"/>
            <a:ext cx="146196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 Unicode"/>
              </a:rPr>
              <a:t>Antimicrobial Resist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475080" y="1782720"/>
            <a:ext cx="0" cy="733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486400" y="1782720"/>
            <a:ext cx="0" cy="730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743200" y="2514600"/>
            <a:ext cx="146196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 Unicode"/>
              </a:rPr>
              <a:t>Adverse Drug Ev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846680" y="2514600"/>
            <a:ext cx="14619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 Unicode"/>
              </a:rPr>
              <a:t>Transfusion/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Lucida Sans Unicode"/>
              </a:rPr>
              <a:t>Transplant Safe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82520" y="3611520"/>
            <a:ext cx="118908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 Unicode"/>
              </a:rPr>
              <a:t>Device/ Procedure -relate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646280" y="3611520"/>
            <a:ext cx="118908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 Unicode"/>
              </a:rPr>
              <a:t>Settings/ Practices-related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822240" y="3246480"/>
            <a:ext cx="1096920" cy="365040"/>
            <a:chOff x="822240" y="3246480"/>
            <a:chExt cx="1096920" cy="365040"/>
          </a:xfrm>
        </p:grpSpPr>
        <p:sp>
          <p:nvSpPr>
            <p:cNvPr id="129" name=""/>
            <p:cNvSpPr/>
            <p:nvPr/>
          </p:nvSpPr>
          <p:spPr>
            <a:xfrm flipH="1">
              <a:off x="822240" y="3246480"/>
              <a:ext cx="549360" cy="365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69800" y="3246480"/>
              <a:ext cx="549360" cy="365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822240" y="4343400"/>
            <a:ext cx="1096920" cy="365040"/>
            <a:chOff x="822240" y="4343400"/>
            <a:chExt cx="1096920" cy="365040"/>
          </a:xfrm>
        </p:grpSpPr>
        <p:sp>
          <p:nvSpPr>
            <p:cNvPr id="132" name=""/>
            <p:cNvSpPr/>
            <p:nvPr/>
          </p:nvSpPr>
          <p:spPr>
            <a:xfrm flipH="1" flipV="1">
              <a:off x="822240" y="4343400"/>
              <a:ext cx="549360" cy="365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 flipV="1">
              <a:off x="1369800" y="4343400"/>
              <a:ext cx="549360" cy="365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274680" y="4800600"/>
            <a:ext cx="21956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 Unicode"/>
              </a:rPr>
              <a:t>MRSA</a:t>
            </a:r>
            <a:br>
              <a:rPr sz="1400"/>
            </a:br>
            <a:r>
              <a:rPr b="1" i="1" lang="en-US" sz="1400" spc="-1" strike="noStrike">
                <a:solidFill>
                  <a:srgbClr val="000000"/>
                </a:solidFill>
                <a:latin typeface="Lucida Sans Unicode"/>
              </a:rPr>
              <a:t>C. Difficile</a:t>
            </a:r>
            <a:br>
              <a:rPr sz="1400"/>
            </a:br>
            <a:r>
              <a:rPr b="1" i="1" lang="en-US" sz="1400" spc="-1" strike="noStrike">
                <a:solidFill>
                  <a:srgbClr val="000000"/>
                </a:solidFill>
                <a:latin typeface="Lucida Sans Unicode"/>
              </a:rPr>
              <a:t>Acinetobacter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191120" y="3581280"/>
            <a:ext cx="4206600" cy="27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break Investig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rveill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vention Recommend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vention I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tramural Applied Prevention Re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boratory Research and 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uidelines for Preventing HA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066320" y="1905120"/>
            <a:ext cx="762012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re are guidelines develop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fessional organizations, Task Forces, Government agencies, academic instit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are th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mmendations for interventions based scientific evidence or expert opin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o develops and uses th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ientists, clinici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licy makers, consum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althcare Infection Control Practices Advisory Committee (HICPA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762120" y="1752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the Secretary…and the Director, Centers for Disease Control and Preven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e advice and guidance regarding the practice of infection control and strategies for surveillance, prevention, and control of healthcare-associated infections … in settings … including hospitals, long-term care facilities, and home health agenc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iodic updating of existing guidelines, development of new guidelines, guideline evaluation; and other policy statements regarding the prevention of healthcare-associated infections and healthcare-related condition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ICPAC Memb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6197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mmittee shall consist of 14 public members, including the Chai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nowledgeable in the fields of infectious diseases, healthcare-associated infections and healthcare-related events, epidemiology, health policy, health services research, public health, and related field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-voting Federal representatives from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gency for Healthcare Research and Qu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od and Drug Administ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nters for Medicare and Medicaid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alth Resources and Services Administ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tional Institutes of Heal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ICPAC Memb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90720" y="1523520"/>
            <a:ext cx="76960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-voting liaison representatives from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ociation of Professionals in Infection Control and Epidemiology, In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ciety for Healthcare Epidemiology of Amer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ociation of Perioperative Registered Nur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merican Hospital Associ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merican Health Care Associ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merican College of Occupational and Environmental Medicin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oint Commission on Accreditation of Healthcare Organiz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visory Council for the Elimination of Tuberculo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 nonvoting liaison representatives as the Secretary deems necess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76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ICPAC Pub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02-2007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olation Precau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ment of Multidrug-Resistant Organi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luenza Vaccination of Healthcare Personn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uidance on Public Reporting of Healthcare-Associated Inf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venting Healthcare Associated Pneumon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vironmental Infection Control in Healthcare Facilit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ing Smallpox Vaccine in a Pre-Event Vaccination Pro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venting Intravascular Device-Related Infec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nd Hygiene in Healthcare Sett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97-1999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vention of Surgical Site Inf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ection Control in Healthcare Personn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munization of Health Care Work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uture Guideli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37720" y="15238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earest on the horiz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sinfection Sterilization (in pres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evention of catheter-associated UT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rovirus in healthcare sett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accinations for healthcare person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urveillance and risk assessment, Ambulatory c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-846000" y="-1305000"/>
            <a:ext cx="10836000" cy="946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523520" y="4343040"/>
            <a:ext cx="63248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dical Officer &amp; Senior Advis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MS – Center for Medicare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title"/>
          </p:nvPr>
        </p:nvSpPr>
        <p:spPr>
          <a:xfrm>
            <a:off x="838080" y="1653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MS’ Value-Based Purchasing Initiatives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om Valuck, MD, JD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06668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3750" t="9657" r="0" b="0"/>
          <a:stretch/>
        </p:blipFill>
        <p:spPr>
          <a:xfrm>
            <a:off x="0" y="0"/>
            <a:ext cx="9448920" cy="679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ew Guideline proc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42600" y="1980720"/>
            <a:ext cx="78152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al guidelines vs. “guidance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TI and Norovirus Guidelines as test c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jectiv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apid production and upda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ier ap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eater transparency and reproduc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ading crite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4" name=""/>
          <p:cNvGraphicFramePr/>
          <p:nvPr/>
        </p:nvGraphicFramePr>
        <p:xfrm>
          <a:off x="0" y="228600"/>
          <a:ext cx="9144000" cy="5873760"/>
        </p:xfrm>
        <a:graphic>
          <a:graphicData uri="http://schemas.openxmlformats.org/drawingml/2006/table">
            <a:tbl>
              <a:tblPr/>
              <a:tblGrid>
                <a:gridCol w="2133720"/>
                <a:gridCol w="2166840"/>
                <a:gridCol w="2506680"/>
                <a:gridCol w="2336760"/>
              </a:tblGrid>
              <a:tr h="8780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CPA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8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ommend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ality of Evid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ommend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ality of Evid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0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RO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t Benefit / Har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rate to High Quality Evid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A - Hig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B - Mode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C – High to Very Lo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y Low to High Quality Evid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2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A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de-off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 to High Quality Evid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 – Low to Very Lo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y Low to Low Quality Evid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8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ommendation for further resear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certain Trade-off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y Low to Low Quality Evid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Recommendation / Unresolved Iss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y Low Quality Evid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5" name=""/>
          <p:cNvSpPr/>
          <p:nvPr/>
        </p:nvSpPr>
        <p:spPr>
          <a:xfrm>
            <a:off x="4419720" y="685800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Question-driven outli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36160" y="1981080"/>
            <a:ext cx="890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Q1. Which patients should receive urinary cathete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2. What practices/factors decrease the risk of infection associated with urinary cathete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Q3. What are the best methods to manage urinary catheter-associated complicatio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8" name=""/>
          <p:cNvGraphicFramePr/>
          <p:nvPr/>
        </p:nvGraphicFramePr>
        <p:xfrm>
          <a:off x="33480" y="0"/>
          <a:ext cx="9110520" cy="6095880"/>
        </p:xfrm>
        <a:graphic>
          <a:graphicData uri="http://schemas.openxmlformats.org/drawingml/2006/table">
            <a:tbl>
              <a:tblPr/>
              <a:tblGrid>
                <a:gridCol w="920520"/>
                <a:gridCol w="776520"/>
                <a:gridCol w="182520"/>
                <a:gridCol w="490320"/>
                <a:gridCol w="1516320"/>
                <a:gridCol w="1261800"/>
                <a:gridCol w="182520"/>
                <a:gridCol w="495360"/>
                <a:gridCol w="2301840"/>
                <a:gridCol w="182880"/>
                <a:gridCol w="799920"/>
              </a:tblGrid>
              <a:tr h="982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Author, Yr Referen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Study Desig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Qual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Study Objectiv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Population and Sett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Resul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Comm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6000">
                <a:tc gridSpan="11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 Operative Catheteriz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3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Phipps, 2006 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Systematic revie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,2,3,4,5,6,7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To establish the optimal way to manage urinary catheters following urogenital surgery in adul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Randomized and quasi-randomized trial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9 RC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Arial Narrow"/>
                          <a:ea typeface="Times New Roman"/>
                        </a:rPr>
                        <a:t>1. Using a urinary catheter vs. not using a urinary cathet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Retention of urin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(1 study) – 0.12(0.03-0.47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UTI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(4 studies) – 1.35(0.75-2.45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Recatheterization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(3 studies) – 0.32(0.14-0.70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Post-op urethral strictur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(1 study) – 1.14(0.90-1.44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Post-op hematuria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(1 study) – 0.73(0.40-1.33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36520" y="2130120"/>
            <a:ext cx="86025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33ff"/>
                </a:solidFill>
                <a:uFillTx/>
                <a:latin typeface="Arial"/>
                <a:hlinkClick r:id="rId1"/>
              </a:rPr>
              <a:t>http://www.cdc.gov/ncidod/dhqp/hicpac.html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33720" y="1219320"/>
            <a:ext cx="4647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ICPAC Websi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1523520" y="4343040"/>
            <a:ext cx="63248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lth Insurance Specialis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MS – Division of Acute C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title"/>
          </p:nvPr>
        </p:nvSpPr>
        <p:spPr>
          <a:xfrm>
            <a:off x="838080" y="1653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Considerations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isa Grabert, MP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06668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uture Consider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sk adjust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ividual and population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es of HACs for V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ropriate for some HA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s of POA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 repor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option of ICD-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 125 codes capturing size, depth, and location of pressure ulc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ansion of the IPPS HAC payment provision to other sett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cussion in the IRF, OPPS/ASC, SNF, LTCH                reg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pportunities for HAC &amp; POA  Involv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371240" y="1295280"/>
            <a:ext cx="76201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the CMS HAC &amp; POA website:  </a:t>
            </a:r>
            <a:r>
              <a:rPr b="0" lang="en-US" sz="2800" spc="-1" strike="noStrike" u="sng">
                <a:solidFill>
                  <a:srgbClr val="3333ff"/>
                </a:solidFill>
                <a:uFillTx/>
                <a:latin typeface="Arial"/>
                <a:hlinkClick r:id="rId1"/>
              </a:rPr>
              <a:t>www.cms.hhs.gov/HospitalAcqCond/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Y 2010 Rulema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spital Open Door Forum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spital Listserv Mess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1523520" y="4343040"/>
            <a:ext cx="63248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or, CMS – Center for Medicare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title"/>
          </p:nvPr>
        </p:nvSpPr>
        <p:spPr>
          <a:xfrm>
            <a:off x="838080" y="1653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ACs in Practice – Mediastinitis Following CABG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eff Rich, M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06668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-763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esentation 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1980720"/>
            <a:ext cx="76960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MS’ Value-Based Purchasing (VBP) Princip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MS’ VBP Demonstrations and Pilo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MS’ VBP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spital-Acquired Conditions &amp; Present on Admission Indicator Repor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rizon Scanning and Opportunities for Particip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1523520" y="4343040"/>
            <a:ext cx="63248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lth Insurance Specialis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MS – Division of Acute C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title"/>
          </p:nvPr>
        </p:nvSpPr>
        <p:spPr>
          <a:xfrm>
            <a:off x="838080" y="1653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ding for HACs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dy Hue, RHIA, CC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06668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AC Statutory Selection Criter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ition must trigger higher pay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ications, including infections, can be designated complicating conditions (CCs) or major complicating conditions (MCC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S-DRGs may split into three different levels of severity, based on complications (no CC or MCC, CC, or MC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resence of a CC or MCC condition as a secondary diagnosis on a claim generates higher pay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OA Indicat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eneral Require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440" y="190512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 on admission (POA) is defined as present at the time the order for inpatient admission occ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ditions that develop during an outpatient encounter, including emergency department, observation, or outpatient surgery, are considered PO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A indicator is assigned 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incipal diagnos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ary diagnose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ternal cause of injury codes (Medicare requires reporting only if E-code is reported as an           additional diagnosi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OA Indicator Reporting O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0" y="990720"/>
          <a:ext cx="9144000" cy="5833800"/>
        </p:xfrm>
        <a:graphic>
          <a:graphicData uri="http://schemas.openxmlformats.org/drawingml/2006/table">
            <a:tbl>
              <a:tblPr/>
              <a:tblGrid>
                <a:gridCol w="1225440"/>
                <a:gridCol w="7918560"/>
              </a:tblGrid>
              <a:tr h="544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A Indicator Options and Definitions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5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d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ason for Cod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4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iagnosis was present at time of inpatient admission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4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iagnosis was not present at time of inpatient admission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ocumentation insufficient to determine if condition w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sent at the time of inpatient admission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inically undetermined.  Provider unable to clinically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termine whether the condition was present at the time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f inpatient admission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7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nreported/Not used.  Exempt from POA reporting.  This code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s equivalent code of a blank on the UB-04; however, it wa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termined that blanks are undesirable when submitting thi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a via the 4010A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OA Indicator Report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696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A indica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MS pays the CC/MCC condition for selected HACs that are coded as “Y” &amp; “W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MS does NOT pay the CC/MCC condition for selected HACs that are coded “N” &amp; “U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2" name=""/>
          <p:cNvGraphicFramePr/>
          <p:nvPr/>
        </p:nvGraphicFramePr>
        <p:xfrm>
          <a:off x="304920" y="0"/>
          <a:ext cx="8534160" cy="6943680"/>
        </p:xfrm>
        <a:graphic>
          <a:graphicData uri="http://schemas.openxmlformats.org/drawingml/2006/table">
            <a:tbl>
              <a:tblPr/>
              <a:tblGrid>
                <a:gridCol w="5263920"/>
                <a:gridCol w="1917720"/>
                <a:gridCol w="1352520"/>
              </a:tblGrid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S-DRG Assign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Examples for a single  secondary diagnosi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A Status of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condary Diagnos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verag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y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incipal Diagnosis:  Stroke without CC/MCC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S-DRG 066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5,347.9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incipal Diagnosis:  Stroke with C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S-DRG 065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xample Secondary Diagnosis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jury due to a fall (code 836.4 (CC)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6,177.4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incipal Diagnosis: Stroke with C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MS-DRG 06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xample Secondary Diagnosis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jury due to a fall (code 836.4 (CC)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5,347.9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incipal Diagnosis:  Stroke with MC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S-DRG 064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xample Secondary Diagnosis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age III pressure ulcer (code 707.23 (MCC)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8,030.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incipal Diagnosis:  Stroke with MC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MS-DRG 06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xample Secondary Diagnosis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age III pressure ulcer (code 707.23 (MCC)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5,347.9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1523520" y="4343040"/>
            <a:ext cx="63248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lth Insurance Specialis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MS – Provider Billing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title"/>
          </p:nvPr>
        </p:nvSpPr>
        <p:spPr>
          <a:xfrm>
            <a:off x="838080" y="1653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Life of an Inpatient Acute Care HAC Claim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arah Shirey-Loss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06668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ife of a Claim: Step #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696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PPS hospital submits a claim to the Medicare Contra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im comes into Medicare Claims Processing System and goes through various editing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ral different ed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A ed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ssing POA ind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ssing POA stream end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POAs does not equal # diagnoses on clai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ife of a Claim: Step #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696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S-DRG GROU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sures a POA indicator is included for all diagno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sures the POA stream indicator is inclu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iews all ICD-9-CM codes for HAC co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justs MS-DRG assignment if an HAC is coded as “N” or “U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no other CC/MCCs are pres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ife of a Claim: Step #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37720" y="2057400"/>
            <a:ext cx="7696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im reimbursement is determined  by Pric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im passes though the Common Working File (CWF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im is pa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-763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S’ Quality Improvemen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oadma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447920" y="1905120"/>
            <a:ext cx="72388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sion:  The right care for every person every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ca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ffec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ffic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tient-cente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e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i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1523520" y="4343040"/>
            <a:ext cx="63248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dical Systems Administrato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DC – National Center for Health Statis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title"/>
          </p:nvPr>
        </p:nvSpPr>
        <p:spPr>
          <a:xfrm>
            <a:off x="838080" y="1653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uidance for POA Indicator Coding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onna Pickett, RHIA, MP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06668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CD-9-CM Official Coding Guideli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vailable at:  </a:t>
            </a:r>
            <a:r>
              <a:rPr b="0" lang="en-US" sz="3200" spc="-1" strike="noStrike" u="sng">
                <a:solidFill>
                  <a:srgbClr val="3333ff"/>
                </a:solidFill>
                <a:uFillTx/>
                <a:latin typeface="Arial"/>
                <a:hlinkClick r:id="rId1"/>
              </a:rPr>
              <a:t>http://www.cdc.gov/nchs/datawh/ftpserv/ftpicd9/icdguide08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d annu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ctober 1, 2008 update contains an Appendix of instructions for proper coding  of POA indicator(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CD-9-CM Official Coding Guideli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joint effort between the healthcare provider and the coder is essential to achieve complete and accurate documentation, code assignment, and reporting of diagnoses and procedures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CD-9-CM  Official Guidelines for Coding and Repor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ources for POA Coding Guid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696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merican Hospital Association’s Coding Clin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vernan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 Cooperating Part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enters for Medicare &amp; Medicaid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enters for Disease Control &amp; Preven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Health Information Management Assoc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Hospital Assoc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ditorial Advisory Board (EA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ent Quarterly Publications Addressing P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Quarter 2008 – FAQ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1371600" y="3809520"/>
            <a:ext cx="63244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pen Public Comment Ses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title"/>
          </p:nvPr>
        </p:nvSpPr>
        <p:spPr>
          <a:xfrm>
            <a:off x="838080" y="1066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rning Pan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06668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1523520" y="4343040"/>
            <a:ext cx="63248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or, AHRQ - Center for Delivery, Organization, and Mark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title"/>
          </p:nvPr>
        </p:nvSpPr>
        <p:spPr>
          <a:xfrm>
            <a:off x="838080" y="1653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HRQ’s Research to Enhance and Support Patient Safety Indicators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rene Fraser, Ph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06668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1523520" y="4343040"/>
            <a:ext cx="63248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al Science Analy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HRQ – Center for Delivery, Organization, and Mark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title"/>
          </p:nvPr>
        </p:nvSpPr>
        <p:spPr>
          <a:xfrm>
            <a:off x="838080" y="1653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HRQ’s Research to Enhance and Support Patient Safety Indicators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ne Elixhauser, Ph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06668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09120" y="2057040"/>
            <a:ext cx="79930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mmary of study: Adding clinical data elements to administrative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ing the enhancement of administrative claims data: State pilo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79930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spital administrative claims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ewide data readily available from most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HRQ Quality Indic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vention Quality Indic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atient Quality Indicators (mortality, utilization, volum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tient Safety Indic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diatric Quality Indic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ministrative data currently used for public reporting on quality of c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imitations of Current 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7993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ck clinically important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mited to ICD-9-CM diagnosis c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stions regarding use of only administrative data for hospital-specific repor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adequate risk adjustment – additional data needed to predict individual patient’s risk of mort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ern about penalizing providers with the sickest pati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-763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S’ Quality Improvemen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oadma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828440"/>
            <a:ext cx="7391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ateg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 through partnersh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 quality and report comparative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lue-Based Purchasing:  improve quality and avoid unnecessary co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courage adoption of effective health information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mote innovation and the evidence base for effective use of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nsion Between Value of Data and Cost of Obtaining the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09120" y="1905120"/>
            <a:ext cx="7993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nnsylvania hospitals provided chart-abstracted clinical deta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spital concern about costs of medical record abstr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ctronic medical records not yet poised to provide data efficie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ception: Lab dat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tudy Objecti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79930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ess impact of incrementally add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A codes for diagno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 values on admi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ed number of diagnosis fiel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d documentation (ICD-9-CM cod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tal sig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difficult to obtain clinical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y cost-effective enhancements to administrative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tudy Reported in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ne M, Jordan HS, Elixhauser A, et al. Enhancement of claims data to improve risk adjustment of hospital mortality.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JAM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2007; 267(1):71-76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rdan HS, Pine M, Elixhauser A, et al. Cost-effective enhancement of claims data to improve comparisons of patient safety.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Journal of Patient Safe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2007; 3(2) 82-9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y DR, Pine M, Jordan HS, et al. Combining administrative and clinical data to stratify surgical risk.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nals of Surger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2007; 246(5): 875-88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ne M, Jordan HS, Elixhauser A, et al. Modifying claims data to improve risk-adjustment of inpatient mortality rates.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edical Decision Mak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forthcom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urce of 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88 Pennsylvania hospit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aims data from July 2000 to June 20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responding Atlas clinical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spital day recorded for each data el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York and California claims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inguish which conditions were comorbidities versus com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potential risk fa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dicators Studi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31240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rt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dic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AA repa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BG surg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aniotom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rebrovascular accid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 hemorrh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neumon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56240" y="1676160"/>
            <a:ext cx="44877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st-operative pati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afety ev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lmonary embolism/deep vein thrombo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ologic/metabolic abnorma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piratory fail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p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 Used in Incrementally More Complex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228600" y="1476360"/>
          <a:ext cx="8686800" cy="5029200"/>
        </p:xfrm>
        <a:graphic>
          <a:graphicData uri="http://schemas.openxmlformats.org/drawingml/2006/table">
            <a:tbl>
              <a:tblPr/>
              <a:tblGrid>
                <a:gridCol w="1581120"/>
                <a:gridCol w="710568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ypes of Data Elemen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M-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ge, sex, principal diagnosis, up to 8 secondary diagnoses only infrequently acquired during hospitalization, selected surgical procedur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A-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M-8 + secondary diagnoses not included in ADM-8, when clinical data establish that they were present on admiss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A-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me as POA-8 with up to 24 secondary diagnos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7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A-IC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A-24 + secondary diagnoses not included in POA-24 because they were underreported in administrative database but were established as present on admission in clinical databa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 Used in Incrementally More Complex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228600" y="1676520"/>
          <a:ext cx="8610480" cy="4633920"/>
        </p:xfrm>
        <a:graphic>
          <a:graphicData uri="http://schemas.openxmlformats.org/drawingml/2006/table">
            <a:tbl>
              <a:tblPr/>
              <a:tblGrid>
                <a:gridCol w="1855800"/>
                <a:gridCol w="675468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ypes of Data Elemen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A-24 + numerical laboratory data on admission (e.g., creatinine, white blood cell count) generally available in electronic for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7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B-IC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B + secondary diagnoses not included in POA-24 because they were underreported in administrative database but were established as present on admission in clinical databa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2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L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B + vital signs and lab data not in LAB (e.g., blood culture results) + key clinical findings abstracted from medical records (e.g., immunocompromised) + composite clinical scores (i.e., ASA Classification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umerical Lab 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447560" y="3276360"/>
            <a:ext cx="327636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 (1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TT (1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 (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BC (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N (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 (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48320" y="3276360"/>
            <a:ext cx="392112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GOT (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telets (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bumin (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lucose (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inine (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K-MB (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09480" y="1447920"/>
            <a:ext cx="7925040" cy="21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of 22 lab tests entered at least one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of 14 of these tests entered four or more model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sults – C statist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-statistic for  pure administrative model = 0.79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POA = 0.8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lab data = 0.8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ll clinical model = 0.88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gest increase in c-statistic is for POA mode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biggest increase when we add laboratory values on admi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ll clinical model adds little additional discriminative 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tient safety models showed a similar patter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sults – Hospital Bi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asure of how hospital rankings would vary depending on amount of clinical deta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ttomline: With less clinical information, more hospitals will be misassigned to “high quality” or “low quality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laboratory information, about 18% of hospitals are misassigned, compared to full clinical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we also improve ICD coding, only 5% of hospitals are misassigned, compared to full clinic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VBP Program Goa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523520" y="1590480"/>
            <a:ext cx="6494760" cy="48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 clinical qu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e adverse events and improve patient safe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courage patient-centered c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oid unnecessary costs in the delivery of c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imulate investments in effective structural components or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performance results transparent and comprehensib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empower consumers to make value-based decisions about their health c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encourage hospitals and clinicians to improve quality of car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the qualit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of c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Vital Signs and Other Clinical 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vital signs entered four or more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lse (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mp (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ood pressure (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pirations (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jection fraction and culture results entered two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osite scores entered four or more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A classification (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lasgow Coma Score (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bstracted Key Clinical F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533160" y="1980720"/>
            <a:ext cx="79930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5 clinical findings entered at least one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three findings entered more than two 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a (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re malnutrition (4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munosuppressed (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4 of these clinical findings have corresponding ICD-9-CM codes (e.g., coma, malnutri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sults – Cost-Effectiven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391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POA and lab data has the smallest incremental costs for the improvement in clinical specificity = Most cost-effe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han $5 per hospital correctly assigned, compared to over $80 per correct assignment for full clinical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ummary of Analy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391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ministrative data can be improved at relatively low cost b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ing POA modif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ing numerical lab data on admi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d co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lementation of Study Results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ing Clinical Data to Statewide Administrative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09120" y="1904760"/>
            <a:ext cx="79930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rpos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368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and data capacities for statewide data organizations participating in HC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ilots to add or link hospital clinical information to administrative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368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gan September 20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368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heduled for completion September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bjectives of Pilo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45640" y="2057040"/>
            <a:ext cx="79930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tablish feasibility of linking clinical and administrative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 reproducible approac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the stage for integrating clinical and administrative data streams in the fu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pecific Activ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79930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and select clinical data elements to add to administrativ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late clinical data from electronic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onically transfer data from hospitals to the data orga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 data into a multi-hospital database and conduct analy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ess the reliability of POA coding through algorithms applied to discharg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aborate with stakehol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gage in peer-to-peer learning, information sharing, dissem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e report that provides lessons lear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dicious addition of a few clinical data elements can significantly improve ability to do quality assessment using administrativ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bs on admi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Potentially) vital sig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roved ICD-9-CM co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iability of POA coding needs to be evalu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lots will jumpstart the enhancement of administrative data by statewide data organiz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28600" y="1371240"/>
            <a:ext cx="86104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spital Outpatient Healthcare- Associated Condi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1295280" y="3962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ol Bazell, MD, MP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ther Hostetler, J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MS - Center for Medicare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Extension of IPPS HAC Program to Hospital Outpatient (HOP) Car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990360" y="2057040"/>
            <a:ext cx="73911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ends CMS’ activities to drive quality improvement, value, and patient safety in the HOP se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P encounters cover a large number and broad array of servi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ift in services from hospital inpatient to outpatient signals likelihood that healthcare-associated conditions will increase in HOP setting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P services often precede inpatient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763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Does VBP Mean to CM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79250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forming Medicare from a passive payer to an active purchaser of higher quality, more efficient health c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ols and initiatives for promoting better quality, while avoiding unnecessary co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ols:  measurement, payment incentives, public reporting, conditions of participation, coverage policy, QIO pro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itiatives:  pay for reporting, pay for performance, gainsharing, competitive bidding, bundled payment, coverage decisions, direct provider sup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llaboration Proc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143000" y="1905120"/>
            <a:ext cx="739152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nters for Disease Control (CD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gency for Healthcare Research and Quality (AHRQ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tional Uniform Billing Committee (NUB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spital Associ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kehol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utpatient Prospective Payment System (OPPS) Infra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39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PS payment based on relative costs from hospital claims for services assigned to Ambulatory Payment Classification (APC) grou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inct payment rate for each A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Cs include HCPCS codes for items or services that are clinically similar and that have comparable resource co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spitals often receive multiple APC payments for a single HOP encou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differential payment adjustment for disease severity; more complex patients may require additional services, which may be separately pa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esent on Admission Indicat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914400" y="1980720"/>
            <a:ext cx="7391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PS currently lacks the infrastructure to identify and collect POA indicator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 approach could identify services for conditions present on hospital arrival by HCPCS modifi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to address current ICD-9-CM POA reporting guidelines that consider conditions that occur during outpatient encounters P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ication of conditions present on hospital arrival for HOP-HACs should be administratively manageable for hospital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ther Infrastructure Concer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43000" y="1905120"/>
            <a:ext cx="739152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tribution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 conditi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tients may be seen in multiple departments or clinics during an outpatient encounter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tients may be seen in multiple settings (hospital and nonhospital) over many  encoun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counters generally of short du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r versus patient facto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ayment Adjustment Consider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914400" y="1980720"/>
            <a:ext cx="73915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im-specific approac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ider flat payment rate reduction or nonpayment for some (HOP-HAC related) or all services provided during HOP en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justed rate could be derived from analysis of OPPS claims with and without HOP-HACs, analysis of IPPS DRG payment relationships, rates paid to hospitals that do not meet quality reporting standards, or other methodolog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spitals could identify non-covered charges for HOP-HAC related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spitals would not collect deductibles and copayments for HOP-HAC related services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ayment Adjustment Consider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39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spital-specific approaches (rate-bas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ider establishing hospital rate of healthcare-associated conditions and define a benchmark or best practice rate above which a hospital payment adjustment would be made for some or all services in a time period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ght not require hospitals to specifically identify HOP-HAC related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ider episode-based payment across the continuum of c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spital Outpatient Healthcare- Associated Condi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33520" y="236232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andidate Healthcare-Associated Conditions (HACs) for the Hospital Outpatient (HOP) Sett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447920" y="3886200"/>
            <a:ext cx="63244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eila H. Roman, MD, MP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dical Offic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MS -  Center for Medicare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80520" y="609480"/>
            <a:ext cx="815364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Initial Criteria for Possible Candidate HOP-HAC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914400" y="20570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) IPPS H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) Conditions that occur during and result from care provided in a single HOP encoun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) Conditions that do not require longitudinal examination of a beneficiary’s healthcare experi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) POA/disease severity would have little influence on occurrence of cond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) Provider attribution clea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Initial Candidate HOP-HAC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762120" y="22856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ject left in during surg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ir embol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ood incompati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lls and Trauma – fractures, dislocations, intracranial injuries, crushing injuries, and bur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conditions identified by ICD-9 co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Other HOP-HACs for Considera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914400" y="1980720"/>
            <a:ext cx="7391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itions related to medication administration/medication errors in the HOP set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itions related to HOP surgery or other proced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ections related to HOP c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itions related to HOP patient c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5T19:19:05Z</dcterms:created>
  <dc:creator> </dc:creator>
  <dc:description/>
  <dc:language>en-US</dc:language>
  <cp:lastModifiedBy>g29r</cp:lastModifiedBy>
  <dcterms:modified xsi:type="dcterms:W3CDTF">2008-12-11T18:22:54Z</dcterms:modified>
  <cp:revision>295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79186640</vt:r8>
  </property>
  <property fmtid="{D5CDD505-2E9C-101B-9397-08002B2CF9AE}" pid="3" name="_AuthorEmail">
    <vt:lpwstr>Lisa.Grabert@cms.hhs.gov</vt:lpwstr>
  </property>
  <property fmtid="{D5CDD505-2E9C-101B-9397-08002B2CF9AE}" pid="4" name="_AuthorEmailDisplayName">
    <vt:lpwstr>Grabert, Lisa (CMS/CMM)</vt:lpwstr>
  </property>
  <property fmtid="{D5CDD505-2E9C-101B-9397-08002B2CF9AE}" pid="5" name="_EmailSubject">
    <vt:lpwstr>Round Bullets</vt:lpwstr>
  </property>
  <property fmtid="{D5CDD505-2E9C-101B-9397-08002B2CF9AE}" pid="6" name="_NewReviewCycle">
    <vt:lpwstr/>
  </property>
</Properties>
</file>